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E62-3EEE-4C18-8100-8A9BF39A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430-CDE2-40F7-BE86-CA231738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94E-6A70-4E9B-8107-0726FA13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4AD-E556-4C56-A68B-3F64EACA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8234-5993-4CF1-BC6F-B2994F20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B949-37DD-44CB-8891-E5E56406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520-70BC-4CA5-8D40-0443E4B5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711F-7A40-4CEA-BCBE-006452DF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B078-2E38-4CF5-8385-0FD6726F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9983-34FB-431C-9CDE-1B0F4EC7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D0A6-7B3B-4B0F-88CB-0FA76A21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88F-DA51-4D24-B950-01FA0EEA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055C-8F69-46B7-B5F3-32FEB15E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BDE7-FF1A-4D28-AEAD-6CFBB15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D62-0F69-4574-AB68-AD87D197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708B-E1CB-4218-81E5-7633765D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C146-3695-489F-B0EB-F0F6DB52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E6EC-102F-4CCD-8057-9D85A448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FE82-9CBB-461B-8B1B-9EBB2959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9F3FB-CA1F-428D-918C-86F34290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1FE7-6A57-4EFB-A4DF-F9B7A143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9C7D-F6D2-4545-BF9F-BDDD6B4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1C8-82CD-414B-A99B-6660726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6523-FA2A-49BE-975D-DA808281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8AE7-EF22-43E9-917C-A563CFBD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7758-6B83-4F40-BFF9-8231D38F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159E-21B1-4881-8A3D-99EE489E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41D1-5A50-4506-8AB5-62771E7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D599-8BE4-4E8A-B09A-B8F02531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8608-594D-430B-ABA3-DB9C6227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D488-4E20-42C2-AF70-2B495DFD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9E4C-FDD6-45DD-A762-9C2E20D0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057A-20EA-418F-B071-1699327B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A4B-C64F-44BF-903B-B3D69A1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8BA4-C29D-404B-B9D5-EE88B059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14D0-B577-4B78-97CC-EFAB97E8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2FDE-C507-493F-9231-8E1D6DB3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D8CE-157E-4612-9F50-FC837311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CEB8-2335-4645-AFFD-EA032DB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2A14-9F57-4983-A6F0-EF1C998F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6D9E-13C6-441D-8105-1E73BDC4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57A7-7EE6-4A6A-ACB5-E2C3083F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B667-3923-4FF3-AF59-9F9A13D0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3E0-0FA4-4CA9-8662-D1BFED63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24C-C7D2-462A-8781-E8424739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B30-5F4E-4441-B30B-EEDB2109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E25-49F4-46E9-A047-9553E519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861-9F65-4563-8D00-42CA040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9824-93C6-4B93-A19C-564BA0FD00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CEFB-9BEC-438B-9CD4-6F8B8BD0ED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1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E70C-47F0-4094-9BE3-C2A75AAC1A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6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004-9126-41CC-ACB0-39DEB99CE65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可编程控制器应用基础</a:t>
            </a:r>
            <a:br>
              <a:rPr sz="5400"/>
            </a:b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版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1600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模块式技能实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中职系列教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08800" y="4076640"/>
            <a:ext cx="185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周四六  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纪文超  副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58280" y="620568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民邮电出版社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010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48261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7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扫描工作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采用循环扫描方式工作。从第一条程序开始，按顺序逐条执行程序，直到程序结束。然后再从头开始扫描，并周而复始地重复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工作时的扫描过程包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阶段：内部处理、通信处理、输入扫描、程序执行、输出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732720" y="1413000"/>
          <a:ext cx="18921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413000"/>
                    <a:ext cx="18921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6120" y="4581360"/>
            <a:ext cx="353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 X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逻辑操作开始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开接点并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1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2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输出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程序结束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2349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梯形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使用得最多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形编程语言。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所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控制程序，就是用梯形图语言编制的一段程序。实际编程时，总是先写出梯形图程序，如果需要，再根据梯形图写出指令表程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4581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指令表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亦称语句表）类似于计算机汇编语言的形式，它是采用指令的助记符来编程的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59500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顺序功能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详见本书模块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24000" y="1700280"/>
            <a:ext cx="27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三种编程语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63066" t="25759" r="-2452" b="28003"/>
          <a:stretch/>
        </p:blipFill>
        <p:spPr>
          <a:xfrm>
            <a:off x="4859280" y="2276640"/>
            <a:ext cx="32418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148360" y="3884760"/>
          <a:ext cx="3995640" cy="29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884760"/>
                    <a:ext cx="399564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55200" y="24210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00360" y="4365720"/>
            <a:ext cx="1081080" cy="1728720"/>
          </a:xfrm>
          <a:prstGeom prst="wedgeRoundRectCallout">
            <a:avLst>
              <a:gd name="adj1" fmla="val 17106"/>
              <a:gd name="adj2" fmla="val -9031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三菱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2N -32MR-001 P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7314840" y="3206880"/>
            <a:ext cx="615960" cy="106020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200"/>
              <a:gd name="textAreaBottom" fmla="*/ 795240 h 106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4880" y="39085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SC09_HPP" descr=""/>
          <p:cNvPicPr/>
          <p:nvPr/>
        </p:nvPicPr>
        <p:blipFill>
          <a:blip r:embed="rId3"/>
          <a:srcRect l="5102" t="14179" r="14891" b="0"/>
          <a:stretch/>
        </p:blipFill>
        <p:spPr>
          <a:xfrm>
            <a:off x="1042920" y="1628640"/>
            <a:ext cx="1467000" cy="2086200"/>
          </a:xfrm>
          <a:prstGeom prst="rect">
            <a:avLst/>
          </a:prstGeom>
          <a:ln w="0">
            <a:noFill/>
          </a:ln>
        </p:spPr>
      </p:pic>
      <p:pic>
        <p:nvPicPr>
          <p:cNvPr id="382" name="SC09_PLC" descr=""/>
          <p:cNvPicPr/>
          <p:nvPr/>
        </p:nvPicPr>
        <p:blipFill>
          <a:blip r:embed="rId4"/>
          <a:srcRect l="3140" t="0" r="0" b="0"/>
          <a:stretch/>
        </p:blipFill>
        <p:spPr>
          <a:xfrm>
            <a:off x="2556000" y="1628640"/>
            <a:ext cx="1533240" cy="2086200"/>
          </a:xfrm>
          <a:prstGeom prst="rect">
            <a:avLst/>
          </a:prstGeom>
          <a:ln w="0">
            <a:noFill/>
          </a:ln>
        </p:spPr>
      </p:pic>
      <p:pic>
        <p:nvPicPr>
          <p:cNvPr id="383" name="FX-20P-CAB" descr=""/>
          <p:cNvPicPr/>
          <p:nvPr/>
        </p:nvPicPr>
        <p:blipFill>
          <a:blip r:embed="rId5"/>
          <a:srcRect l="42092" t="0" r="3368" b="0"/>
          <a:stretch/>
        </p:blipFill>
        <p:spPr>
          <a:xfrm>
            <a:off x="4140360" y="1628640"/>
            <a:ext cx="1514160" cy="2095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640" y="1700280"/>
            <a:ext cx="218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2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20840" y="4365720"/>
            <a:ext cx="1081080" cy="1728720"/>
          </a:xfrm>
          <a:prstGeom prst="wedgeRoundRectCallout">
            <a:avLst>
              <a:gd name="adj1" fmla="val -4476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E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手持式编程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4365720"/>
            <a:ext cx="1081080" cy="1728720"/>
          </a:xfrm>
          <a:prstGeom prst="wedgeRoundRectCallout">
            <a:avLst>
              <a:gd name="adj1" fmla="val 23421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CAB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适配电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79320" y="628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三菱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47880" y="3797280"/>
            <a:ext cx="3779640" cy="2870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265800" cy="26877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6156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52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5148000" y="4724280"/>
            <a:ext cx="615960" cy="106056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560"/>
              <a:gd name="textAreaBottom" fmla="*/ 79560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4880" y="73512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940360" y="4437000"/>
            <a:ext cx="3032280" cy="1579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971640" y="2060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欧姆龙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86640" y="158112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彩灯亮灭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开关控制电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16360" y="2204280"/>
            <a:ext cx="280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54840" y="4075560"/>
            <a:ext cx="326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5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彩灯开关控制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72400" y="595008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14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彩灯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开关控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3961080" cy="3762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435640" y="2637000"/>
            <a:ext cx="2374920" cy="1519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619240" y="5050440"/>
            <a:ext cx="189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64800" y="191628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实训内容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输入输出继电器的接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58560" y="3213000"/>
            <a:ext cx="362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外部接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输入继电器与输入端子之间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负载、负载供电电源之间的联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理解程序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控制系统中的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了解手持式编程工具的一般应用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602064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6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实训电路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08440" y="5733000"/>
            <a:ext cx="62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a)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b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7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及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790800" cy="38163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0" t="0" r="0" b="8326"/>
          <a:stretch/>
        </p:blipFill>
        <p:spPr>
          <a:xfrm>
            <a:off x="4414680" y="2421000"/>
            <a:ext cx="4729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269100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思考下列问题，将正确的答案填入空白处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可编程控制器的内部有很多等效继电器，但只有输入继电器和输出继电器是可以与外围设备进行连接的，其中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驱动线圈有外部接线端子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动合触头有外部接线端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主要编程设备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输出接口电路一般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、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种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全书共分八个模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二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FX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列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基本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三  基本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四  三相异步电动机的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控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五  步进指令及状态编程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六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程序流程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七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传送比较、逻辑运算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八  其他功能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常见应用系统的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特点及应用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硬件结构和软件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3456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种“启－保－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电路的比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971640" y="2708280"/>
          <a:ext cx="322740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322740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788000" y="6021360"/>
            <a:ext cx="3382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控制电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6021360"/>
            <a:ext cx="4319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继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触器控制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924360" cy="29354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rcRect l="63066" t="25759" r="-2452" b="28003"/>
          <a:stretch/>
        </p:blipFill>
        <p:spPr>
          <a:xfrm>
            <a:off x="5508720" y="4437000"/>
            <a:ext cx="2725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编程控制器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编程方法简单易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功能强，性能价格比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硬件配套齐全，用户使用方便，适应性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可靠性高，抗干扰能力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系统的设计、安装、调试工作量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维修工作量小，维修方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体积小，能耗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8920" y="4652640"/>
            <a:ext cx="367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-4  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部硬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逻辑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0" t="1453" r="0" b="1026"/>
          <a:stretch/>
        </p:blipFill>
        <p:spPr>
          <a:xfrm>
            <a:off x="4859280" y="3645000"/>
            <a:ext cx="4284720" cy="30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0" y="1484280"/>
          <a:ext cx="4968720" cy="29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49687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219640" y="2133720"/>
            <a:ext cx="360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-3  FX2N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系列可编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控制器的外形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两种输入接口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5040000" cy="2214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4465800" cy="2403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276640"/>
            <a:ext cx="302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直流输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电路外接电源的极性可任意，单元中含有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构成的滤波电路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46760" y="4653000"/>
            <a:ext cx="419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交流输入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元中含有隔直流电容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直流及交流输入电路中均采用光耦实现输入信号与机内电路的耦合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三种输出接口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234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体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03280" y="551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输出电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76720" cy="21178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7883" t="12699" r="10536" b="6779"/>
          <a:stretch/>
        </p:blipFill>
        <p:spPr>
          <a:xfrm>
            <a:off x="611280" y="3357720"/>
            <a:ext cx="3816360" cy="2081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rcRect l="13832" t="7795" r="16649" b="8642"/>
          <a:stretch/>
        </p:blipFill>
        <p:spPr>
          <a:xfrm>
            <a:off x="4427640" y="4665600"/>
            <a:ext cx="4446360" cy="2192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5724360" y="4005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闸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92360" y="2349360"/>
            <a:ext cx="976320" cy="412920"/>
          </a:xfrm>
          <a:prstGeom prst="rightArrow">
            <a:avLst>
              <a:gd name="adj1" fmla="val 50000"/>
              <a:gd name="adj2" fmla="val 5911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3933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36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28920" y="5013360"/>
            <a:ext cx="135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内置输入控制回路直流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工作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程序“工作电源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91280" y="5013360"/>
            <a:ext cx="70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辅助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主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负载工作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-341280"/>
            <a:ext cx="54612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697440" cy="505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047240" y="1267200"/>
            <a:ext cx="60696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等效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2:37:52Z</dcterms:created>
  <dc:creator>雨林木风</dc:creator>
  <dc:description/>
  <dc:language>en-US</dc:language>
  <cp:lastModifiedBy>雨林木风</cp:lastModifiedBy>
  <dcterms:modified xsi:type="dcterms:W3CDTF">2010-10-05T07:26:08Z</dcterms:modified>
  <cp:revision>47</cp:revision>
  <dc:subject/>
  <dc:title> S7-200系列可编程控制器 应 用 基 础</dc:title>
</cp:coreProperties>
</file>